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DC23D-9D22-4E4D-BA84-30728B86F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C8C30-0088-4FE0-947A-D66B172C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543E9-589C-4019-9B89-BEDD352D6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C3BFB-6111-49D9-A076-373FCFFD3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E3002-F7A4-47EF-8BDA-8FF483D7F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19957-A427-419B-9DD0-8B5C67519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D8FBF-BC8A-4436-BCC3-01584DDE4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72CDF-6599-466A-98E2-6EC02D54C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C7144-8750-41B8-A448-02E1C3065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A825A-D425-449C-B2CE-339177F10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4489A-CECD-4C3E-AA3A-9CFC764DF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EF295-848D-4BE8-9F24-11944C7E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1E486-BAFB-4857-9002-813A21206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064F8-6080-4EF1-AD7E-B7766E6D9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D87C0-BFFE-4DB9-988C-739A99602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521AA-7A1B-4B21-B83F-E612ECD58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09ED0-1DF9-4CA9-90BF-F1277D53C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F999F-CA26-46A5-A40B-53E08033A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EB5F-A3D5-42E3-88B9-49CCF990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C8827-B322-4424-9DDE-9890B1B2A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11D2E-0512-4175-919E-5ACA8FF73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AC1CB-746D-4721-8D9B-D08D477F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EBD0-BE04-4B8C-A7A5-1529F05B4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E306-12E1-4689-92C0-5F0D5C6B8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7633-0440-4722-BEC3-CB73D2041C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B4D0-70A2-4E95-94CE-2FAB17B75B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Travail de Sciences Humaine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 facteurs de la socialis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ges 74-75 du manu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tre t</a:t>
            </a:r>
            <a:r>
              <a:rPr b="0" lang="en-US" sz="4400" spc="-1" strike="noStrike">
                <a:solidFill>
                  <a:srgbClr val="ffffcc"/>
                </a:solidFill>
                <a:latin typeface="Tahoma"/>
                <a:ea typeface="Tahoma"/>
              </a:rPr>
              <a:t>âche:</a:t>
            </a:r>
            <a:endParaRPr b="0" lang="en-US" sz="4400" spc="-1" strike="noStrike">
              <a:solidFill>
                <a:srgbClr val="ffffcc"/>
              </a:solidFill>
              <a:latin typeface="Tahoma"/>
            </a:endParaRPr>
          </a:p>
        </p:txBody>
      </p:sp>
      <p:sp>
        <p:nvSpPr>
          <p:cNvPr id="91" name="PlaceHolder 2"/>
          <p:cNvSpPr>
            <a:spLocks noGrp="1"/>
          </p:cNvSpPr>
          <p:nvPr>
            <p:ph/>
          </p:nvPr>
        </p:nvSpPr>
        <p:spPr>
          <a:xfrm>
            <a:off x="457200" y="1599840"/>
            <a:ext cx="8229600" cy="4724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1. </a:t>
            </a:r>
            <a:r>
              <a:rPr b="0" lang="en-US" sz="2400" spc="-1" strike="noStrike">
                <a:solidFill>
                  <a:srgbClr val="ffffff"/>
                </a:solidFill>
                <a:latin typeface="Tahoma"/>
              </a:rPr>
              <a:t>Lis les pages 74 &amp; 75 de ton manuel. (AU COMPLE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2. </a:t>
            </a:r>
            <a:r>
              <a:rPr b="0" lang="en-US" sz="2400" spc="-1" strike="noStrike">
                <a:solidFill>
                  <a:srgbClr val="ffffff"/>
                </a:solidFill>
                <a:latin typeface="Tahoma"/>
              </a:rPr>
              <a:t>Sur des feuilles mobiles (ou sur l`ordinateur), divise tes pages en 6 section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 </a:t>
            </a:r>
            <a:r>
              <a:rPr b="0" lang="en-US" sz="2400" spc="-1" strike="noStrike">
                <a:solidFill>
                  <a:srgbClr val="ffffff"/>
                </a:solidFill>
                <a:latin typeface="Tahoma"/>
              </a:rPr>
              <a:t>Pour chaque section, </a:t>
            </a:r>
            <a:r>
              <a:rPr b="0" lang="en-US" sz="2400" spc="-1" strike="noStrike">
                <a:solidFill>
                  <a:srgbClr val="ffffff"/>
                </a:solidFill>
                <a:latin typeface="Tahoma"/>
                <a:ea typeface="Tahoma"/>
              </a:rPr>
              <a:t>choisit un des thème de la page 75.( ex: la famille, les écoles, les groupes de paires, les clubs, la localit</a:t>
            </a:r>
            <a:r>
              <a:rPr b="0" lang="fr-CA" sz="2400" spc="-1" strike="noStrike">
                <a:solidFill>
                  <a:srgbClr val="ffffff"/>
                </a:solidFill>
                <a:latin typeface="Tahoma"/>
                <a:ea typeface="Tahoma"/>
              </a:rPr>
              <a:t>é, l`État, les groupes religieux, le média – à la fin, il va y avoir 2 thèmes qui ne sont pas utilisés.)</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4. </a:t>
            </a:r>
            <a:r>
              <a:rPr b="0" lang="en-US" sz="2400" spc="-1" strike="noStrike">
                <a:solidFill>
                  <a:srgbClr val="ffffff"/>
                </a:solidFill>
                <a:latin typeface="Tahoma"/>
                <a:ea typeface="Tahoma"/>
              </a:rPr>
              <a:t>Pour chacuns des 6 thèmes, réponds à la question suivante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Comment est-ce que ceci a influencé qui je suis maintenan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n exemple:</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 FAMILL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suis n</a:t>
            </a:r>
            <a:r>
              <a:rPr b="0" lang="en-US" sz="2400" spc="-1" strike="noStrike">
                <a:solidFill>
                  <a:srgbClr val="ffffff"/>
                </a:solidFill>
                <a:latin typeface="Tahoma"/>
                <a:ea typeface="Tahoma"/>
              </a:rPr>
              <a:t>ée dans une famille de 5: un père, une mère, deux petits frères. Nous sommes très proches. Un règlement qu’on avait chez nous était que tout le monde mangeait le souper ensemble. Comme ça, on pouvait partager nos journées et raconter des histoire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De ma famille, j’ai appris la patience. J’ai appris que la famille vienne toujours en première. J’ai appris qu’il faut accepter les différences des autres, et j’ai appris le respe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Votre travail:</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is </a:t>
            </a:r>
            <a:r>
              <a:rPr b="0" lang="en-US" sz="2800" spc="-1" strike="noStrike">
                <a:solidFill>
                  <a:srgbClr val="ffffff"/>
                </a:solidFill>
                <a:latin typeface="Tahoma"/>
                <a:ea typeface="Tahoma"/>
              </a:rPr>
              <a:t>être propre, corriger, et comple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Longueur: 1 ou 2 paragraphes par thèm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Date de remise: le lundi 16 févri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Dans votre copie finale, il faut inclure une photo de bébé, et une photo récente sur la page titr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Vous allez présenter vos projets dans des petits group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Bonne chance! </a:t>
            </a:r>
            <a:r>
              <a:rPr b="0" lang="en-US" sz="2800" spc="-1" strike="noStrike">
                <a:solidFill>
                  <a:srgbClr val="ffffff"/>
                </a:solidFill>
                <a:latin typeface="Times New Roman"/>
                <a:ea typeface="Times New Roman"/>
              </a:rPr>
              <a:t>☺</a:t>
            </a:r>
            <a:r>
              <a:rPr b="0" lang="en-US" sz="2800" spc="-1" strike="noStrike">
                <a:solidFill>
                  <a:srgbClr val="ffffff"/>
                </a:solidFill>
                <a:latin typeface="Tahoma"/>
                <a:ea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4:36Z</dcterms:created>
  <dc:creator>Administrator</dc:creator>
  <dc:description/>
  <dc:language>en-US</dc:language>
  <cp:lastModifiedBy>ED18</cp:lastModifiedBy>
  <dcterms:modified xsi:type="dcterms:W3CDTF">2015-02-09T19:20:17Z</dcterms:modified>
  <cp:revision>9</cp:revision>
  <dc:subject/>
  <dc:title>Travail de Sciences Humaines</dc:title>
</cp:coreProperties>
</file>